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5.png" ContentType="image/png"/>
  <Override PartName="/ppt/media/image1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applause.wav" ContentType="audio/x-wav"/>
  <Override PartName="/ppt/media/image15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4.wmf" ContentType="image/x-wmf"/>
  <Override PartName="/ppt/media/image22.wmf" ContentType="image/x-wmf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  <p:custShowLst>
    <p:custShow name="Pokaz niestandardowy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EB8A-B2D2-4AB4-B1D2-F01BCB89CD5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132-E02C-427F-87CD-D6C362E9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9C8-743A-458D-AE34-142C1C46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287-EC0E-483B-A44E-21077B78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DD6-6423-4BB1-AB25-E0FE9266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8D9A-2A8D-4D7E-B666-FB3BF5A9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0D2-D62A-48A8-915A-561774D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942-0260-48F2-8971-C922A7D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04D-F329-495B-A6BA-E2F1249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C23-DFCB-4C31-94B1-F289EA4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CD7A-EBFE-4DA2-AD78-845DC0C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825-316F-4F6F-B62C-F598BD70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8A2-9896-442B-8DFC-11C8C964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4C17-CB6E-4265-B0F1-52C9234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9435-CA02-453C-9749-10F49BA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EEC3-976F-4863-88FF-938D9BC0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F2E4-8C36-417D-B2F2-D5F1B7FD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9FD7-E5FC-4334-A2AA-B696AAE0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E4A-2CB9-4CA0-B44F-65D7F09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90D-341F-4FF5-AC15-047341F1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B75-00EE-49E7-A402-3FB5FD09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C92-F6D7-4196-A9CE-4EF09758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92F-8612-46D5-AD51-93F7F30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335-8663-4AD5-AC74-0C576662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6C0-ABB9-4BE0-9FEF-E35DB0C4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7D30-CC30-4FAE-B953-C3D3EDED8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1249-4C1E-4EFA-B2D0-A93133AED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IERDZENI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TAGORASA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pracowanie: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gr Emilia Pawłowsk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105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426708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 trójkąci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okątnym sum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ól kwadrató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ych 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yprostokąt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est równa pol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wadrat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zbudowanego n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zeciwprostokątne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810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2924280"/>
            <a:ext cx="1371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905120"/>
            <a:ext cx="1371600" cy="99036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74800">
            <a:off x="6495840" y="847440"/>
            <a:ext cx="1695240" cy="17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widłowość tę odkrył grecki matematyk Pitagoras, żyjący w latach ok. 572-497 p.n.e. i dlatego nazywamy ją twierdzeniem Pitagora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zasadniając własność PITAGORASA wykorzystamy układankę starą jak świ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zygotowałam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8 jednakowych trójkątów prostokątn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bokach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3 kwadraty o bokach odpowiednio a,b,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063880"/>
          <a:ext cx="38098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3880"/>
                    <a:ext cx="38098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4120" y="838080"/>
          <a:ext cx="529416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838080"/>
                    <a:ext cx="529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H="1" flipV="1">
            <a:off x="608400" y="6087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04200" y="41148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142640" y="3042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3213000"/>
            <a:ext cx="2592360" cy="30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1294200" y="441900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28600"/>
            <a:ext cx="2158920" cy="240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219320"/>
            <a:ext cx="961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5400000">
            <a:off x="913320" y="3656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976600">
            <a:off x="-228600" y="358092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480800">
            <a:off x="1065960" y="281916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-360" y="1370880"/>
            <a:ext cx="2514600" cy="1143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takich elementów ułożę teraz dwie figury o identycznym polu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62360" y="3808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pierwszym rysunku widać cztery jednakowe trójkąty prostokątne o bokach a,b,c ułożone w taki sposób, że wewnątrz powstał kwadrat o boku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838080" y="762120"/>
          <a:ext cx="7124760" cy="52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762120"/>
                    <a:ext cx="71247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-838080" y="0"/>
          <a:ext cx="5753160" cy="43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57531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rugim rysunku te same trójkąty ułożone zostały inaczej, tak że pojawiły się dwa mniejsze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9720" y="685800"/>
          <a:ext cx="4419360" cy="33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685800"/>
                    <a:ext cx="4419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533520"/>
          <a:ext cx="4343400" cy="35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4340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stały w ten sposób dwie figury o identycznym pol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 przedstawionych figur nie ulegną zmianie, jeżeli będziemy zabierać identyczne kawałk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14800" y="0"/>
          <a:ext cx="5029200" cy="29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0"/>
                    <a:ext cx="502920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267080" y="3429000"/>
          <a:ext cx="4243680" cy="3168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4243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-838080" y="0"/>
          <a:ext cx="6819840" cy="46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0"/>
                    <a:ext cx="68198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505320" y="2924280"/>
          <a:ext cx="5295960" cy="37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924280"/>
                    <a:ext cx="52959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ÓJKĄTY....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ÓJKĄ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 płaska figura geometryczna złożona z trzech boków i trzech kątów. Suma miar kątów wewnętrznych każdego trójkąta wynosi 18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440" y="4114800"/>
            <a:ext cx="1066680" cy="1828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5943600"/>
            <a:ext cx="32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114800"/>
            <a:ext cx="22100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-609480" y="0"/>
          <a:ext cx="5257800" cy="39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0"/>
                    <a:ext cx="5257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43400" y="533520"/>
          <a:ext cx="5791320" cy="318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533520"/>
                    <a:ext cx="5791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 dwa mniejsze kwadraty mają takie s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e, jak kwadrat na rysunku po prawe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pisz wyrażenie, opisujące pola kwadratów na rysunk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-757080" y="2565360"/>
          <a:ext cx="497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565360"/>
                    <a:ext cx="49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91120" y="1752480"/>
          <a:ext cx="5943600" cy="318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752480"/>
                    <a:ext cx="5943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676520"/>
          <a:ext cx="7772400" cy="41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+b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5600" spc="-1" strike="noStrike">
                <a:solidFill>
                  <a:srgbClr val="ffcc66"/>
                </a:solidFill>
                <a:latin typeface="Arial"/>
              </a:rPr>
              <a:t>=c</a:t>
            </a:r>
            <a:r>
              <a:rPr b="0" lang="en-US" sz="15600" spc="-1" strike="noStrike" baseline="30000">
                <a:solidFill>
                  <a:srgbClr val="ffcc66"/>
                </a:solidFill>
                <a:latin typeface="Arial"/>
              </a:rPr>
              <a:t>2</a:t>
            </a:r>
            <a:endParaRPr b="0" lang="en-US" sz="15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atem twierdzeni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66ffcc"/>
                </a:solidFill>
                <a:latin typeface="Times New Roman"/>
              </a:rPr>
              <a:t>zostało                   udowodnione!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Stosując twierdzenie Pitagorasa, możemy obliczyć długość jednego z boków trójkąta prostokątnego, gdy znane są długości dwóch pozostałych boków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ONIEC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dzaje trójkątów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2880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jmijmy się trójkąte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okątny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t to taki trójkąt, który posiada jeden kąt prosty, czyli równy 9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990720"/>
            <a:ext cx="2895480" cy="4572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KI TAKIEGO TRÓJKĄT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 przy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- przeciwprostokąt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040" y="24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0680" y="2517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76920" y="1447920"/>
          <a:ext cx="3808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44792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77120" y="762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5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75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75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75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ż ponad 2500 lat temu zauważono, że jeśli kąt między danymi bokami jest prosty, to trzeci bok trójkąta nie tylko można skonstruować, ale także łatwo obliczyć jego długoś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392436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92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atrzcie na rysunek obo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bokach trójkąta prostokątnego zbudowano kwad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ównam sumę pól dwóch mniejszych kwadratów z polem większego kwadra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57880" y="364500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10000" y="36352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404640"/>
            <a:ext cx="4443120" cy="56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25351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2535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2590920"/>
          <a:ext cx="2819160" cy="259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28191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53280" y="3200400"/>
          <a:ext cx="2790720" cy="2743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3280" y="3200400"/>
                    <a:ext cx="2790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ępującą własność trójkątów prostokątnych odkryli już starożytni matematy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zy wiesz jaka to własność trójkątów prostokątnych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2438280"/>
          <a:ext cx="777240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14:37:35Z</dcterms:created>
  <dc:creator>pol</dc:creator>
  <dc:description/>
  <dc:language>en-US</dc:language>
  <cp:lastModifiedBy>x</cp:lastModifiedBy>
  <dcterms:modified xsi:type="dcterms:W3CDTF">2013-03-12T15:25:09Z</dcterms:modified>
  <cp:revision>141</cp:revision>
  <dc:subject/>
  <dc:title>TWIERDZENIE PITAGORASA</dc:title>
</cp:coreProperties>
</file>